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2FC-E9C9-4CBB-83EC-9EA43538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CD1-FE0F-4D1B-B4D4-35CD3D9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CAE-2E7B-48AF-A96A-6E6F4D27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02E-5058-414E-9A33-482B059D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BEDE-FAF7-4B45-A3A7-1AB25646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D7F3-5E01-450D-B4E3-46164E00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FF60-A9A5-4B62-AF81-D1ECF7C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D3DD-A9CD-4957-84AE-858D882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6892-A4C9-4288-BE50-ACE945C7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8939-C681-49F9-891B-8D05422A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7677-2FD7-4BB1-B263-609A3D5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321-7294-492E-A70C-3F069F5A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6097-F9AB-4DAF-98B1-AAD7A20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C263-7015-4E26-8BCD-BC7D8E47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B552-DA19-4127-A487-7C2B0E5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5B6D-5B7C-4896-8D3D-49716217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61E1-1CDA-42A3-AF46-6FCCA6E3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433-586A-46CA-BC27-B843A5C3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425-7B9C-4117-8E2C-55B5A3C2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DF7-62F9-4D18-88F7-89249D7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EAB-2F13-4972-ADB3-356D3AC6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05E-ACD2-4BA0-90C7-7C5AEB7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C0F-F67E-4E21-91C6-2108A1A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6A2-2457-4B79-A1B9-D39C9911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1A59-92A2-4E5B-BCB3-3528DF93F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6FB9-081A-4FF3-88C0-59A089058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j0234759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HH00446_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10" descr="NA00002_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O00085_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12" descr="HH02192_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HH00446_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6" descr="SO00085_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NA00002_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H02192_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H00446_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DD00864_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9" descr="SO00085_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NA00002_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HH02192_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fiona hooper</cp:lastModifiedBy>
  <dcterms:modified xsi:type="dcterms:W3CDTF">2012-04-03T05:41:11Z</dcterms:modified>
  <cp:revision>7</cp:revision>
  <dc:subject/>
  <dc:title>PLANTS</dc:title>
</cp:coreProperties>
</file>